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5502-E426-482E-B568-E1D5455CD3D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A90-4D30-4C1B-BC71-1E137256425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C46-2970-4D2A-B24F-648AFA81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9C0-40CA-41AF-BD95-C039E86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A59-8BCF-4B6C-BAEB-DA2BCB5B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65E-F6AC-4A78-9178-FC57FC03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F44-AFCC-470A-AA14-82B370A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26B2-077F-42D6-86F5-61D4389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111C-B35D-481F-B543-024A99B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755-F13D-40EA-9C94-B4B4395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4B72-7EA0-48B2-A970-29D6F0E3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5D9-26E4-41DA-99E6-5366190B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15B9-D344-414C-B87B-2081CD8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16E-09F2-4044-B5CF-8A496A1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3C7F-096D-40D3-A8FE-238C146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FA0-87D6-41BD-A337-6099E16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FCE0-9B5A-48AB-94F0-85236273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3EB-B981-45A7-ACAA-21D88A4D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A1E-D62C-4872-8ECE-B5ACC06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E94F-F2A6-4CC0-A74D-C50B3726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1F98-0A0C-4650-90AC-E3B9860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3A88-9084-4914-9D7E-15AA748E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9F1A-74AE-4C33-AB83-4ECBA556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F5CB-0792-4283-AA9B-A4B1E41B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AFD-651F-497D-8BB4-89CCCFB3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821B-F427-4CB6-B9B7-D6B4A0D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1615-B380-40E9-948A-B741C67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0CEC-5565-486C-88F2-338D693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77A3-F657-43A0-B718-6C96238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41B5-085F-44F3-BAB5-AB1E577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D868-A589-45A3-933D-FADA2B0F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69F1-5B64-4637-8D70-9E7D2C03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94BD-B62E-42D9-A70D-3480922C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7EF9-DA47-41A8-BE11-C071643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091D-25B9-4641-BE1C-962C301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E22-12FC-415F-85DF-3317886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A184-2441-46B3-B3AD-DC6D4F6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2B88-5EE7-4120-9900-E0997606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A1A8-D132-4060-B089-2C3AD77E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1468-48F9-4699-BB5A-F7BCD2A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9C55-68C1-40E0-9042-78A9D51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7168-08A1-4CBF-8061-9BECC54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5410-3E93-4A4A-9D60-8F84B34B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C59E-9F19-4A8A-8900-45AD3AA1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C98F-FD36-4AEB-9214-FE009093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BFFF-F463-4137-B21C-5BAB7E65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38D-C164-4177-9365-2D739E89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2139-91CC-44B1-AAEC-440E920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F580-FBB0-4515-975A-58AE4D6B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45EF-795A-4160-8EC6-4FCBF190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E571-A485-4258-BAB0-DB2C1192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CF8B-61F9-47AE-A1C4-AF78626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A60B-D9F9-46E1-8132-4EA43B9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F93A-A5F9-4AEE-A993-25F900C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67B0-8D0A-4CE3-8E33-549F667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0E0B-88DE-45BD-9F1D-9AF5D538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80C3-BA03-43E6-9483-5A0EC3E2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20B-2B3D-4B6F-80E0-50F73F1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1B63-0897-4401-B318-46D4EFE8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968C-39FE-47C4-9552-BD77FA8B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9D170-36A4-4601-AECD-00428D56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051DE-69D3-4A90-B2B7-9136DF8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86AD-1FF6-45A0-A62A-2BA1352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F195-C6A8-42C4-BC77-65F6B2C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1F54-1DAF-4F6C-9689-66F1B99E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2509-1119-4181-B993-CEEBB51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3B7D-3DF8-4430-9088-FFC3F19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396B-AB39-4CCC-BA7A-3AC7FC9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0B9-0E14-4DA0-9796-F437E1D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833A-3D6B-45B7-B20B-C7633A8D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1C73-421F-40F9-860F-3C4F392E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6934-1F1F-4A20-8BF4-809AF0CC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70E9-145B-48A7-B4ED-3432D3E9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5F9B-D80E-43C6-9E32-136CF16E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3EE5-2007-48A6-A38B-7549092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BA05B-5D7D-4C6C-ADBA-3DDF612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953F-3858-4A23-AB71-FC98612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06DE-9405-42C6-AEC9-D753CD1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30698-FF98-48BB-8F2D-3DC7DAD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AA6-8C9E-49BA-88F4-AAF101B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A235-2052-4274-A389-25325B2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3E483-B056-4B39-8092-F69556E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D456-15C3-4CB0-9682-B4D9C94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A676B-F3A0-4B5E-A207-A9ED327C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BB10-8AB5-4E06-B454-EB76714E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106-F82C-4F27-AE45-4BAC58E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7B0B-3CCE-4F63-B7EC-6C77D2D7E734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496A-39A7-43ED-8A1D-6CFEADA51099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466E-EB7F-40EA-A63C-4E8E84C9F683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459-2C43-4016-ABB5-150DE167151A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996-AF44-4F81-95A7-938D45C1337C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BE6-46C5-48B1-B879-01AC48C9785D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Kunstler Scrip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ivald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Kunstler Scrip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228-DF35-4066-A47B-9C1C67D43497}" type="slidenum">
              <a:rPr b="0" lang="es-AR" sz="1200" spc="-1" strike="noStrike">
                <a:solidFill>
                  <a:srgbClr val="b5a788"/>
                </a:solidFill>
                <a:latin typeface="Kunstler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480" y="1428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572314"/>
                </a:solidFill>
                <a:latin typeface="Vivaldi"/>
              </a:rPr>
              <a:t>Rennes…</a:t>
            </a:r>
            <a:endParaRPr b="0" lang="en-US" sz="96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26" name="Picture 2" descr="C:\Documents and Settings\Administrador\Mis documentos\Mis imágenes\Imagen\Logo_Rennes.gif"/>
          <p:cNvPicPr/>
          <p:nvPr/>
        </p:nvPicPr>
        <p:blipFill>
          <a:blip r:embed="rId1"/>
          <a:stretch/>
        </p:blipFill>
        <p:spPr>
          <a:xfrm>
            <a:off x="2857680" y="2914560"/>
            <a:ext cx="47145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s-AR" sz="7200" spc="-1" strike="noStrike">
                <a:solidFill>
                  <a:srgbClr val="572314"/>
                </a:solidFill>
                <a:latin typeface="Juice ITC"/>
              </a:rPr>
              <a:t>Transports</a:t>
            </a:r>
            <a:br>
              <a:rPr sz="3900"/>
            </a:br>
            <a:endParaRPr b="0" lang="en-US" sz="72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60" name="Picture 5" descr="C:\Documents and Settings\Administrador\Mis documentos\Mis imágenes\Imagen\220px-Rennes-018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Documents and Settings\Administrador\Mis documentos\Mis imágenes\Imagen\220px-TGV_train_in_Rennes_station_DSC08944.jpg"/>
          <p:cNvPicPr/>
          <p:nvPr/>
        </p:nvPicPr>
        <p:blipFill>
          <a:blip r:embed="rId2"/>
          <a:stretch/>
        </p:blipFill>
        <p:spPr>
          <a:xfrm>
            <a:off x="5357880" y="1785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Documents and Settings\Administrador\Mis documentos\Mis imágenes\Imagen\220px-Rennes_place_de_la_République_DSC_4521.JPG"/>
          <p:cNvPicPr/>
          <p:nvPr/>
        </p:nvPicPr>
        <p:blipFill>
          <a:blip r:embed="rId3"/>
          <a:stretch/>
        </p:blipFill>
        <p:spPr>
          <a:xfrm>
            <a:off x="107172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C:\Documents and Settings\Administrador\Mis documentos\Mis imágenes\Imagen\250px-Aéroport_de_Rennes.jpg"/>
          <p:cNvPicPr/>
          <p:nvPr/>
        </p:nvPicPr>
        <p:blipFill>
          <a:blip r:embed="rId4"/>
          <a:stretch/>
        </p:blipFill>
        <p:spPr>
          <a:xfrm>
            <a:off x="5286240" y="42861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s-AR" sz="7200" spc="-1" strike="noStrike">
                <a:solidFill>
                  <a:srgbClr val="572314"/>
                </a:solidFill>
                <a:latin typeface="Juice ITC"/>
              </a:rPr>
              <a:t>Sport</a:t>
            </a:r>
            <a:br>
              <a:rPr sz="3900"/>
            </a:br>
            <a:endParaRPr b="0" lang="en-US" sz="72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65" name="Picture 2" descr="C:\Documents and Settings\Administrador\Mis documentos\Mis imágenes\Imagen\iposdf.jpg"/>
          <p:cNvPicPr/>
          <p:nvPr/>
        </p:nvPicPr>
        <p:blipFill>
          <a:blip r:embed="rId1"/>
          <a:stretch/>
        </p:blipFill>
        <p:spPr>
          <a:xfrm>
            <a:off x="642960" y="1857240"/>
            <a:ext cx="2443320" cy="2643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:\Documents and Settings\Administrador\Mis documentos\Mis imágenes\Imagen\dbgfo.jpg"/>
          <p:cNvPicPr/>
          <p:nvPr/>
        </p:nvPicPr>
        <p:blipFill>
          <a:blip r:embed="rId2"/>
          <a:stretch/>
        </p:blipFill>
        <p:spPr>
          <a:xfrm>
            <a:off x="3357720" y="2286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Documents and Settings\Administrador\Mis documentos\Mis imágenes\Imagen\j.jpg"/>
          <p:cNvPicPr/>
          <p:nvPr/>
        </p:nvPicPr>
        <p:blipFill>
          <a:blip r:embed="rId3"/>
          <a:stretch/>
        </p:blipFill>
        <p:spPr>
          <a:xfrm>
            <a:off x="3429000" y="4643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Administrador\Mis documentos\Mis imágenes\Imagen\ad.jpg"/>
          <p:cNvPicPr/>
          <p:nvPr/>
        </p:nvPicPr>
        <p:blipFill>
          <a:blip r:embed="rId4"/>
          <a:stretch/>
        </p:blipFill>
        <p:spPr>
          <a:xfrm>
            <a:off x="6143760" y="1857240"/>
            <a:ext cx="22143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572314"/>
                </a:solidFill>
                <a:latin typeface="Juice ITC"/>
              </a:rPr>
              <a:t>Gastronomie</a:t>
            </a:r>
            <a:endParaRPr b="0" lang="en-US" sz="54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70" name="4 Marcador de posición de imagen" descr="220px-Crepes_dsc07085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4b3e21"/>
                </a:solidFill>
                <a:latin typeface="Juice ITC"/>
              </a:rPr>
              <a:t>Crêpe </a:t>
            </a:r>
            <a:endParaRPr b="0" lang="en-US" sz="54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Juice ITC"/>
              </a:rPr>
              <a:t>                         </a:t>
            </a:r>
            <a:r>
              <a:rPr b="0" lang="es-AR" sz="4300" spc="-1" strike="noStrike">
                <a:solidFill>
                  <a:srgbClr val="572314"/>
                </a:solidFill>
                <a:latin typeface="Juice ITC"/>
              </a:rPr>
              <a:t>Localisation</a:t>
            </a:r>
            <a:endParaRPr b="0" lang="en-US" sz="43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28" name="Picture 2" descr="C:\Documents and Settings\Administrador\Mis documentos\Mis imágenes\Imagen\bretagne.gif"/>
          <p:cNvPicPr/>
          <p:nvPr/>
        </p:nvPicPr>
        <p:blipFill>
          <a:blip r:embed="rId1"/>
          <a:stretch/>
        </p:blipFill>
        <p:spPr>
          <a:xfrm>
            <a:off x="857160" y="1571760"/>
            <a:ext cx="764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572314"/>
                </a:solidFill>
                <a:latin typeface="Juice ITC"/>
              </a:rPr>
              <a:t>La Ville</a:t>
            </a:r>
            <a:endParaRPr b="0" lang="en-US" sz="6000" spc="-1" strike="noStrike">
              <a:solidFill>
                <a:srgbClr val="572314"/>
              </a:solidFill>
              <a:latin typeface="Vivald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b3e21"/>
                </a:solidFill>
                <a:latin typeface="Juice ITC"/>
              </a:rPr>
              <a:t>La ville de Rennes est située à l’Ouest de la France</a:t>
            </a:r>
            <a:endParaRPr b="0" lang="en-US" sz="20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32" name="6 Marcador de posición de imagen" descr="p1100467-1_shiftn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Documents and Settings\Administrador\Mis documentos\Mis imágenes\Imagen\,-,-.jpg"/>
          <p:cNvPicPr/>
          <p:nvPr/>
        </p:nvPicPr>
        <p:blipFill>
          <a:blip r:embed="rId1"/>
          <a:stretch/>
        </p:blipFill>
        <p:spPr>
          <a:xfrm rot="20608200">
            <a:off x="267840" y="460440"/>
            <a:ext cx="3584520" cy="2409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C:\Documents and Settings\Administrador\Mis documentos\Mis imágenes\Imagen\images....jpg"/>
          <p:cNvPicPr/>
          <p:nvPr/>
        </p:nvPicPr>
        <p:blipFill>
          <a:blip r:embed="rId2"/>
          <a:stretch/>
        </p:blipFill>
        <p:spPr>
          <a:xfrm rot="1146000">
            <a:off x="4992480" y="622080"/>
            <a:ext cx="3651120" cy="2490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Documents and Settings\Administrador\Mis documentos\Mis imágenes\Imagen\rennes-le-chateau.jpg"/>
          <p:cNvPicPr/>
          <p:nvPr/>
        </p:nvPicPr>
        <p:blipFill>
          <a:blip r:embed="rId3"/>
          <a:stretch/>
        </p:blipFill>
        <p:spPr>
          <a:xfrm rot="731400">
            <a:off x="236160" y="3706560"/>
            <a:ext cx="3591000" cy="2625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C:\Documents and Settings\Administrador\Mis documentos\Mis imágenes\Imagen\p1100467-1_shiftn.jpg"/>
          <p:cNvPicPr/>
          <p:nvPr/>
        </p:nvPicPr>
        <p:blipFill>
          <a:blip r:embed="rId4"/>
          <a:stretch/>
        </p:blipFill>
        <p:spPr>
          <a:xfrm rot="21124800">
            <a:off x="4525920" y="3611520"/>
            <a:ext cx="3881520" cy="27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C:\Documents and Settings\Administrador\Mis documentos\Mis imágenes\Imagen\´..jpg"/>
          <p:cNvPicPr/>
          <p:nvPr/>
        </p:nvPicPr>
        <p:blipFill>
          <a:blip r:embed="rId5"/>
          <a:stretch/>
        </p:blipFill>
        <p:spPr>
          <a:xfrm>
            <a:off x="2571840" y="221472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572314"/>
                </a:solidFill>
                <a:latin typeface="Juice ITC"/>
              </a:rPr>
              <a:t>Les Symboles</a:t>
            </a:r>
            <a:endParaRPr b="0" lang="en-US" sz="60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39" name="Picture 4" descr="C:\Documents and Settings\Administrador\Mis documentos\Mis imágenes\Imagen\cat-rennes-oct-2002-298rennes-terrie1.jpg"/>
          <p:cNvPicPr/>
          <p:nvPr/>
        </p:nvPicPr>
        <p:blipFill>
          <a:blip r:embed="rId1"/>
          <a:stretch/>
        </p:blipFill>
        <p:spPr>
          <a:xfrm rot="21069600">
            <a:off x="5866920" y="1545840"/>
            <a:ext cx="2697120" cy="3127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Documents and Settings\Administrador\Mis documentos\Mis imágenes\Imagen\normal_coloriage_rennes_18.jpg"/>
          <p:cNvPicPr/>
          <p:nvPr/>
        </p:nvPicPr>
        <p:blipFill>
          <a:blip r:embed="rId2"/>
          <a:stretch/>
        </p:blipFill>
        <p:spPr>
          <a:xfrm>
            <a:off x="3500280" y="357192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Administrador\Mis documentos\Mis imágenes\Imagen\+++.jpg"/>
          <p:cNvPicPr/>
          <p:nvPr/>
        </p:nvPicPr>
        <p:blipFill>
          <a:blip r:embed="rId3"/>
          <a:stretch/>
        </p:blipFill>
        <p:spPr>
          <a:xfrm rot="1032600">
            <a:off x="1355760" y="1564920"/>
            <a:ext cx="3214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800" spc="-1" strike="noStrike">
                <a:solidFill>
                  <a:srgbClr val="572314"/>
                </a:solidFill>
                <a:latin typeface="Juice ITC"/>
              </a:rPr>
              <a:t>Monnaie</a:t>
            </a:r>
            <a:endParaRPr b="0" lang="en-US" sz="88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43" name="Picture 2" descr="C:\Documents and Settings\Administrador\Mis documentos\Mis imágenes\Imagen\`+`+.jpg"/>
          <p:cNvPicPr/>
          <p:nvPr/>
        </p:nvPicPr>
        <p:blipFill>
          <a:blip r:embed="rId1"/>
          <a:stretch/>
        </p:blipFill>
        <p:spPr>
          <a:xfrm>
            <a:off x="2143080" y="2286000"/>
            <a:ext cx="5357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572314"/>
                </a:solidFill>
                <a:latin typeface="Juice ITC"/>
              </a:rPr>
              <a:t> </a:t>
            </a:r>
            <a:r>
              <a:rPr b="0" lang="es-AR" sz="8000" spc="-1" strike="noStrike">
                <a:solidFill>
                  <a:srgbClr val="572314"/>
                </a:solidFill>
                <a:latin typeface="Juice ITC"/>
              </a:rPr>
              <a:t>Lieux à visiter</a:t>
            </a:r>
            <a:endParaRPr b="0" lang="en-US" sz="8000" spc="-1" strike="noStrike">
              <a:solidFill>
                <a:srgbClr val="572314"/>
              </a:solidFill>
              <a:latin typeface="Vivaldi"/>
            </a:endParaRPr>
          </a:p>
        </p:txBody>
      </p:sp>
      <p:pic>
        <p:nvPicPr>
          <p:cNvPr id="345" name="Picture 3" descr="C:\Documents and Settings\Administrador\Mis documentos\Mis imágenes\Imagen\800px-Notre_dame_en_saint-melaine_DSC_4481.jpg"/>
          <p:cNvPicPr/>
          <p:nvPr/>
        </p:nvPicPr>
        <p:blipFill>
          <a:blip r:embed="rId1"/>
          <a:stretch/>
        </p:blipFill>
        <p:spPr>
          <a:xfrm rot="21241800">
            <a:off x="566640" y="2068200"/>
            <a:ext cx="3967200" cy="2577960"/>
          </a:xfrm>
          <a:prstGeom prst="rect">
            <a:avLst/>
          </a:prstGeom>
          <a:ln w="0">
            <a:noFill/>
          </a:ln>
        </p:spPr>
      </p:pic>
      <p:sp>
        <p:nvSpPr>
          <p:cNvPr id="346" name="4 CuadroTexto"/>
          <p:cNvSpPr/>
          <p:nvPr/>
        </p:nvSpPr>
        <p:spPr>
          <a:xfrm rot="21303600">
            <a:off x="885600" y="472320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b3e21"/>
                </a:solidFill>
                <a:latin typeface="Juice ITC"/>
              </a:rPr>
              <a:t>Notre dame en saint-melaine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47" name="Picture 4" descr="C:\Documents and Settings\Administrador\Mis documentos\Mis imágenes\Imagen\220px-Anciennes_imprimeries_Oberthur_(Rennes).JPG"/>
          <p:cNvPicPr/>
          <p:nvPr/>
        </p:nvPicPr>
        <p:blipFill>
          <a:blip r:embed="rId2"/>
          <a:stretch/>
        </p:blipFill>
        <p:spPr>
          <a:xfrm rot="21048000">
            <a:off x="4860720" y="3165480"/>
            <a:ext cx="3546360" cy="2427120"/>
          </a:xfrm>
          <a:prstGeom prst="rect">
            <a:avLst/>
          </a:prstGeom>
          <a:ln w="0">
            <a:noFill/>
          </a:ln>
        </p:spPr>
      </p:pic>
      <p:sp>
        <p:nvSpPr>
          <p:cNvPr id="348" name="6 CuadroTexto"/>
          <p:cNvSpPr/>
          <p:nvPr/>
        </p:nvSpPr>
        <p:spPr>
          <a:xfrm rot="20947200">
            <a:off x="5211000" y="583884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b3e21"/>
                </a:solidFill>
                <a:latin typeface="Juice ITC"/>
              </a:rPr>
              <a:t>Les imprimeries Oberthür.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Documents and Settings\Administrador\Mis documentos\Mis imágenes\Imagen\220px-Lac_du_parc_Oberthür.jpg"/>
          <p:cNvPicPr/>
          <p:nvPr/>
        </p:nvPicPr>
        <p:blipFill>
          <a:blip r:embed="rId1"/>
          <a:stretch/>
        </p:blipFill>
        <p:spPr>
          <a:xfrm>
            <a:off x="500040" y="28584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C:\Documents and Settings\Administrador\Mis documentos\Mis imágenes\Imagen\220px-Étangs_apigné_04.jpg"/>
          <p:cNvPicPr/>
          <p:nvPr/>
        </p:nvPicPr>
        <p:blipFill>
          <a:blip r:embed="rId2"/>
          <a:stretch/>
        </p:blipFill>
        <p:spPr>
          <a:xfrm>
            <a:off x="5715000" y="357120"/>
            <a:ext cx="2793960" cy="1866960"/>
          </a:xfrm>
          <a:prstGeom prst="rect">
            <a:avLst/>
          </a:prstGeom>
          <a:ln w="0">
            <a:noFill/>
          </a:ln>
        </p:spPr>
      </p:pic>
      <p:sp>
        <p:nvSpPr>
          <p:cNvPr id="351" name="3 CuadroTexto"/>
          <p:cNvSpPr/>
          <p:nvPr/>
        </p:nvSpPr>
        <p:spPr>
          <a:xfrm>
            <a:off x="571680" y="250020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Kunstler Script"/>
              </a:rPr>
              <a:t>.</a:t>
            </a:r>
            <a:r>
              <a:rPr b="0" lang="es-AR" sz="18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s-AR" sz="2800" spc="-1" strike="noStrike">
                <a:solidFill>
                  <a:srgbClr val="4b3e21"/>
                </a:solidFill>
                <a:latin typeface="Juice ITC"/>
              </a:rPr>
              <a:t>Lac du parc Oberthür</a:t>
            </a:r>
            <a:endParaRPr b="0" lang="en-US" sz="28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52" name="4 CuadroTexto"/>
          <p:cNvSpPr/>
          <p:nvPr/>
        </p:nvSpPr>
        <p:spPr>
          <a:xfrm>
            <a:off x="5786280" y="242892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b3e21"/>
                </a:solidFill>
                <a:latin typeface="Juice ITC"/>
              </a:rPr>
              <a:t>Étangs d'Apigné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3" name="Picture 4" descr="C:\Documents and Settings\Administrador\Mis documentos\Mis imágenes\Imagen\280px-Rennes-ancien_Palais_Universitaire-Musée_des_beaux_arts.JPG"/>
          <p:cNvPicPr/>
          <p:nvPr/>
        </p:nvPicPr>
        <p:blipFill>
          <a:blip r:embed="rId3"/>
          <a:stretch/>
        </p:blipFill>
        <p:spPr>
          <a:xfrm>
            <a:off x="3143160" y="2500200"/>
            <a:ext cx="2714760" cy="1857600"/>
          </a:xfrm>
          <a:prstGeom prst="rect">
            <a:avLst/>
          </a:prstGeom>
          <a:ln w="0">
            <a:noFill/>
          </a:ln>
        </p:spPr>
      </p:pic>
      <p:sp>
        <p:nvSpPr>
          <p:cNvPr id="354" name="6 CuadroTexto"/>
          <p:cNvSpPr/>
          <p:nvPr/>
        </p:nvSpPr>
        <p:spPr>
          <a:xfrm>
            <a:off x="3214800" y="4500720"/>
            <a:ext cx="25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b3e21"/>
                </a:solidFill>
                <a:latin typeface="Juice ITC"/>
              </a:rPr>
              <a:t>Musée des beaux-arts de Rennes</a:t>
            </a:r>
            <a:endParaRPr b="0" lang="en-US" sz="20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5" name="Picture 5" descr="C:\Documents and Settings\Administrador\Mis documentos\Mis imágenes\Imagen\280px-Champs_Libres_entrée.jpg"/>
          <p:cNvPicPr/>
          <p:nvPr/>
        </p:nvPicPr>
        <p:blipFill>
          <a:blip r:embed="rId4"/>
          <a:stretch/>
        </p:blipFill>
        <p:spPr>
          <a:xfrm>
            <a:off x="285840" y="4357800"/>
            <a:ext cx="2857320" cy="2089080"/>
          </a:xfrm>
          <a:prstGeom prst="rect">
            <a:avLst/>
          </a:prstGeom>
          <a:ln w="0">
            <a:noFill/>
          </a:ln>
        </p:spPr>
      </p:pic>
      <p:sp>
        <p:nvSpPr>
          <p:cNvPr id="356" name="9 CuadroTexto"/>
          <p:cNvSpPr/>
          <p:nvPr/>
        </p:nvSpPr>
        <p:spPr>
          <a:xfrm>
            <a:off x="285840" y="63961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b3e21"/>
                </a:solidFill>
                <a:latin typeface="Juice ITC"/>
              </a:rPr>
              <a:t>Les Champs Libres</a:t>
            </a:r>
            <a:endParaRPr b="0" lang="en-US" sz="24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357" name="Picture 6" descr="C:\Documents and Settings\Administrador\Mis documentos\Mis imágenes\Imagen\opera.jpg"/>
          <p:cNvPicPr/>
          <p:nvPr/>
        </p:nvPicPr>
        <p:blipFill>
          <a:blip r:embed="rId5"/>
          <a:stretch/>
        </p:blipFill>
        <p:spPr>
          <a:xfrm>
            <a:off x="5857920" y="4357800"/>
            <a:ext cx="2857320" cy="2030400"/>
          </a:xfrm>
          <a:prstGeom prst="rect">
            <a:avLst/>
          </a:prstGeom>
          <a:ln w="0">
            <a:noFill/>
          </a:ln>
        </p:spPr>
      </p:pic>
      <p:sp>
        <p:nvSpPr>
          <p:cNvPr id="358" name="12 CuadroTexto"/>
          <p:cNvSpPr/>
          <p:nvPr/>
        </p:nvSpPr>
        <p:spPr>
          <a:xfrm>
            <a:off x="5857920" y="642924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b3e21"/>
                </a:solidFill>
                <a:latin typeface="Juice ITC"/>
              </a:rPr>
              <a:t>L'Opéra de Rennes</a:t>
            </a:r>
            <a:endParaRPr b="0" lang="en-US" sz="28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08:06Z</dcterms:created>
  <dc:creator>Colossus User</dc:creator>
  <dc:description/>
  <dc:language>en-US</dc:language>
  <cp:lastModifiedBy>Colossus User</cp:lastModifiedBy>
  <dcterms:modified xsi:type="dcterms:W3CDTF">2011-04-06T20:06:51Z</dcterms:modified>
  <cp:revision>13</cp:revision>
  <dc:subject/>
  <dc:title>Rennes…</dc:title>
</cp:coreProperties>
</file>